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7F027-FD53-4D63-A157-1F58EEB652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E008-D185-4119-8E8F-FB13C9BA6C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C240-9D11-4FD0-9F3A-C67D67160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2584-707D-4211-B5F4-A8E002D07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DA5F-7195-477F-8705-4AECFC82D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84F4-FFE5-4EEF-8FDE-83A21CCAE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F279-87BB-4A9E-AE26-020F9F07B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B33A-5DC3-47DD-A92F-4CA707CD2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C77E-98F8-495E-A584-5AF8B88B2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F709-E4C6-4396-B295-75504D34D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64FA-8BB7-493E-92E4-DED92E548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2066-7926-4F79-9F59-D7348963C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1D27-EDBA-4FF7-8371-8301B6787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8271-E586-4C3C-ACF5-1413EEC08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918704-7814-459E-9389-0F02096754E9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719B5C8-DBE5-4F90-A683-C92214510289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Samen met andere expert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Inhoudelijk (door)ontwikkelen RSGB /RGBZ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onderdelen en bijbehorende document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Voorbereiden van de release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antwoordelijkhe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Beoordelen ingediende wijzigingsaanvrag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uitwerken ervan i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Doel &amp; Verantwoord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Onderwer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nrichten beheer RSGB / RGB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goedkeuren RSGB / RGBZ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volgacties n.a.v.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harmonisatie STUF – N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mpact nieuwe versies basisregistra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(NHR, WOZ, MGB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orontwikkeling RGBZ+ (klantcontacte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behandele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Ellen Debats</dc:creator>
  <dc:description/>
  <dc:language>en-US</dc:language>
  <cp:lastModifiedBy>Debat_E</cp:lastModifiedBy>
  <dcterms:modified xsi:type="dcterms:W3CDTF">2010-09-09T07:52:17Z</dcterms:modified>
  <cp:revision>76</cp:revision>
  <dc:subject/>
  <dc:title>startbijeenkomst expertgroep informatiemodellen</dc:title>
</cp:coreProperties>
</file>